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C31A-55F6-42EA-A47F-AE8D655B96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3061-4C59-4F62-91F5-6792752BC4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F4B-5982-4F65-835A-C9CF0B5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154-6E4B-4481-A881-7F8FA29F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22F7-E380-4EFA-ACAD-95687A51A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718-CF56-41E4-B262-F29441B0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DAB8-E438-4186-BF93-CB10C494E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D742D-B80B-4804-832C-99DE650E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5D62-1822-4594-967B-5CA976FF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1530-4702-46B5-BAD4-2167EBE1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8A95-7C12-4221-891D-6A3EBBFB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E81A-A906-4908-8F0F-12F98C30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B1FF-A2CB-49C9-8E11-F636C954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23B-CB0E-4D8B-8C0F-73916F84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43F2-DDD7-4837-A9CD-1C7926AA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90879-E5CC-424F-9657-CCB123EA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78C-DDA9-47AE-A1EB-7B0C98DDD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8B0C-DEA0-4DE4-A48C-99527B75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EA05-CEF9-4AA8-860D-194CE9E3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2D18-8BE3-494B-8F84-11D60668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4015A-6BEF-41E9-A6A1-707CF08C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B298F-03CF-4DB0-83AE-A03A2448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CACD7-A90D-40BD-AFEE-9D6C3013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3AC98-3E41-4E8D-BE67-10B40A97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9F4C-5F72-4A1D-A103-4613C301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C967-FCBC-4DDD-87D0-A2DB84CE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EB5A-6D29-4E56-A110-820D56E4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EFF23-0313-428E-B17A-3D68AE9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2D408-533B-450E-B5E5-E625BB1F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E5925-3083-4071-AC64-5ED285B5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CE70-4F46-48A1-BE08-4A67FE3F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05D47-428F-467C-9E66-C02A2F9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4134B-5C33-43E4-A8B3-62EE356D3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68EA-8F1C-4163-9168-867F9C0B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1F93B-1474-4B66-B685-C486C97B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18EF-08F2-4407-B087-EBC6ABEF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450F6-9C17-429F-A391-424A46D1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4862C-8CD4-4BD1-8BCB-E5E1B025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AEB8F-657B-47AA-B4A7-6CD7C39A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D497-F805-4CFB-90F1-CBDBAD7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65D9-0292-4C86-A391-E6444977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3238B-6BD2-43E2-875D-92342C2B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08B65-71D8-4877-BB77-208442D6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D6A75-8385-4E44-B6CD-5AA4B736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5F2F3-16A5-4660-89A7-B75794683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32BF6-3951-4474-9695-AECA7C730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5B5F-8D31-4379-84A2-491A54B8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9E99A-17E7-4711-926D-2D9276FC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9EFE-1412-4748-A572-51BB7205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6F14A-1B67-4B70-B88E-A5D74602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E717-EADC-405D-89CD-3EDB505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FF42-7BCC-4C3C-BE79-20F2D9EB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1A5BF-E55F-446D-9386-B11C5A74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C4A8E-CBF6-4B20-B98A-28BEA5A8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9A05-2939-483C-AC1D-0807576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D4833-EE62-43DB-84C4-54049D46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47FC5-FB2F-4C78-AF69-68DC11E8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105C-5EA8-421A-8833-51A8B36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33C79-185F-4EEE-A377-175171C60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55515-8DB7-462C-81E2-0F2FF755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098D0-2FB8-4CEC-802A-F9387DDC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14E9E-02DE-4460-8D61-E9C70654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57275-6FD4-4928-B6D1-07DE05CA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84E49-6867-4CD7-AE80-F04B8219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A5EC2-E902-4828-A74A-6E1EA6E3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32133-0583-4034-875C-8EC09AAA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DC2B1-A58F-4611-B4EB-3712BBE3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3F9A4-4B88-4F1C-9E2F-FBD2933E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B6E0-1D92-41BE-8EE3-6FD1178B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ADBAD-C20B-4A32-B8A9-288037ED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9771C-CE74-4353-92CE-2E8537F3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82F94-19BA-4DA4-8EAE-04777AF15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567AC-1EF4-49B7-AEAD-97E7D6252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50782-1FB1-4C12-93B2-2636DA17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71D93-0A9F-4744-B29D-BA2FA4D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65E3-768E-4B87-ACDD-1334301D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9EE23-6D10-4C9E-9780-A6FA1A71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BC399-772C-4F3B-B044-023D6504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52173-68C6-40AF-9A01-DAF6FA44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5987-9718-4345-807B-5672E69D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243E-D3E2-4BAD-9E7E-F45240B5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5A872-C000-4F2A-9718-863B14EF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2EF03-5DE7-4872-9D9A-7C782267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E3D51-60B8-4FAF-A3D7-AC3485689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E138-A426-4238-B7C8-E53E18E1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AFFF0-2C5F-433E-A817-5DB698173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46BBD-3429-4B71-A4AA-B65000D02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0F1B-3AC4-4F79-8A90-DB80C848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5A2C0-4221-405D-BF89-01A1C8B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B437-096E-4CA5-A4C6-A459D00A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E6A-2B24-48D8-A6B0-B8682D0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E419F-D844-4B5A-B43C-48A9EC45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C7CDB-0A45-47B9-B7BC-9C90EB32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01E9B-A857-40DD-B03D-49215A65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0E014-3823-42D4-922B-2281F41E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7398-5608-45FB-924A-4A396EB0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A0812-6C21-49A8-B87E-AC8825CE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169D7-9F04-4917-B2A9-9FAE0FFED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B340-AD63-4917-975A-4002BD7A81CC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Picture 7" descr="HHD12_bnr.jpg"/>
          <p:cNvPicPr/>
          <p:nvPr/>
        </p:nvPicPr>
        <p:blipFill>
          <a:blip r:embed="rId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ight Triangle 15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6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0" name="Freeform 18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9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Freeform 20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3" name="Freeform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Straight Connector 22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11D4-3879-4065-88EE-E5DAF4A2AE33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104" name="Chevron 15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hevron 16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A188-CF73-459F-ADDF-B0232280D8D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0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19A-C3A7-418D-B0F8-D2CAE00E7BC1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4536-591E-4B36-AE90-8E3D2261FFC7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7" descr="HHD12_bnr.jpg"/>
          <p:cNvPicPr/>
          <p:nvPr/>
        </p:nvPicPr>
        <p:blipFill>
          <a:blip r:embed="rId5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F54A-958C-495D-8919-D78A004B5AF2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B546-08D7-4ECC-9F10-76A0A04F3D08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reeform 15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16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Right Triangle 18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8" name="Right Triangle 18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Straight Connector 19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31" name="Chevron 20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Chevron 2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7143-8E03-4D8D-8A8E-8DC64EDBFF81}" type="slidenum">
              <a:rPr b="0" lang="en-A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259840" cy="22003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s hard structure of bones and teeth; regulates contraction and relaxation of muscles; assists in blood clotting; transmits nerve impuls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sourc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ilk and milk products, green leafy vegetables, tofu and soy bean products, fish with edible bones such as tinned tuna, nuts and seed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ssential component of haemoglobin – the pigment that gives blood its red colou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ormation of red blood cell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d meat, chicken, seafoo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Wholegrain breads and cereals, legumes, dark green leafy vegetab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itamins are also micronutrients, they inclu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itamin C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-group vitamins such as thiamin, riboflavin, niacin and vitamin B12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212760" y="622440"/>
            <a:ext cx="84866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457200" y="1481040"/>
          <a:ext cx="8229600" cy="32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s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sistance to inf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aintaining the mucous membranes that line the respiratory, gastrointestinal and urinary tracts as well as the mouth nose and 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rmal growth of children, particularly teeth and b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nimal sources such as liver, oily fish, full-cream milk, egg yolk and che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range and green fruit and vegetables such as carrots, spinach, broccoli, pumpkin, mango and apric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457200" y="148104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bsorption and metabolism of calcium and phosphorous to assist the formation of bones and tee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ell growth and develop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functioning of the nervous system and the immune syste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, especially fish with a high fat content, such as sardines and sal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t, eggs and dairy products, including bu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foods, such as margari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57200" y="1481040"/>
          <a:ext cx="8229600" cy="4029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6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collagen, the connective tissue in skin, ligaments and b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moting the healing of wou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absorption of iron / forma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eventing haemorrhaging and bleeding g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ghting infection by maintaining white blood cells, which act as bacteria figh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the production of thyroxin, a hormone involved in metabolis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ruit and vegetables such as: blackcurants, oranges, mangoes, pineapples, grapefruit, kiwi fruit, raspberries, capsicums, potatoes, broccoli and spin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457200" y="1481040"/>
          <a:ext cx="8229600" cy="3205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3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Normal functioning of nerve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uscle to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breakfast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dne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p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meal b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same s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457200" y="1481040"/>
          <a:ext cx="8229600" cy="2930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560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Healthy skin and eyesigh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nvolved in the production of red blood cel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red 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icke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lk and milk produ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457200" y="1481040"/>
          <a:ext cx="8229600" cy="2382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blood circ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reducing cholesterol levels in the bl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important for maintaining healthy digestive trac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yeast extracts (vegemite and marmi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tified breakfast cer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457200" y="1481040"/>
          <a:ext cx="8229600" cy="1833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abolism of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produc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development of the nervou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ean red m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chick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wholegrain breads and cereal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e of the key behavioural determinants that affects the health and development of Australia’s youth is food inta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utrition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the process of eating to nourish our bodies. It is also the scientific study of why we e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457200" y="1481040"/>
          <a:ext cx="8229600" cy="26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Food sour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red blood 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ormation of nerve cells and DNA genetic 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tabolism of carbohydrates and fa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l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kidn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e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oyst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fis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seaf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egg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milk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8218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understand how food affects health and development of youth, it is important to look 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how they work (function) and the foods they are found in (source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Nutrient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are the chemical components of food; they are required by living thing to maintain life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re are many different types of nutrients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212760" y="622440"/>
            <a:ext cx="848664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many different types of nutrients can be classified into two main form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cro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Needed by the body in large quantities – proteins, carbohydrates, fats and wa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icronutrient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Needed by the body in relatively small amounts – vitamins and mineral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in function: build, grow and repair ce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de up of smaller units called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ed as either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complet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incomplet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depending on composition of amino aci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od sources include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mplete: meat, chicken, cheese, eggs, mil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complete: rice, legumes, nuts, vegetables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212760" y="47628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ain function: provide energy or fuel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Classified as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monosaccharides,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disaccharides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Lucida Sans Unicode"/>
              </a:rPr>
              <a:t>polysaccharides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Food sources include: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onosaccharides: glucose and fructose found in honey and nut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isaccharides: sucrose and lactose found in sugar and milk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olysaccharides: Starch found in rice and pasta and cellulose found in wholegrain breads and cereal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ain function: Provide energy, provide insulation, supply fat-soluble vitamins and essential fatty acid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Classified as: saturated, trans, monounsaturated and polyunsaturated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ood sources includ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Saturated: meat, butter, cream, coconut crea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Trans: hydrogenated vegetable fats, manufactured margarines, cakes and biscuits (also found naturally in smaller quantities in meat and dairy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Monounsaturated: olives, olive oil, avocado, nuts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Polyunsaturated:  some margarines, vegetable oils, oily fish such as salmon, tuna and sardines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13968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st important nutrient of a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sential for bodily functions, including: digestion, absorption, circulation, regulation of temperature, lubrication, transportation of nutrients, oxygen and wast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urces: fresh water, fruit and vegetable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erals are micronutrients, two important minerals are calcium and ir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12760" y="549360"/>
            <a:ext cx="848664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3-20T22:59:44Z</dcterms:modified>
  <cp:revision>51</cp:revision>
  <dc:subject/>
  <dc:title>Slide 1</dc:title>
</cp:coreProperties>
</file>